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1125-E1C2-499A-95B3-19C444AF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E567-550C-4274-9823-F7E755A2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68AA-5735-40B5-B7DA-30CDB1A3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6BF1-8C83-45BE-9C38-0EFF5F13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EDD-11F6-4737-977E-BBB1D4E5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5686-B96A-44DB-8926-A36CD003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EA0F-1E46-4A53-8C43-7B1EE414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C5A8-5B34-4891-AC1D-B4E63F08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421-3B76-42E4-92D8-3772386E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EECD-FD05-449B-8410-4ECC4D9F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F40-350A-47F9-97C3-483FF47B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32A-377D-4C26-92DD-37CB9CC1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8037-D700-48A4-AD2E-B52151D63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203720" cy="1017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3047760" cy="743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685800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619760" cy="3135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8076960" cy="1441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9880" y="4343400"/>
            <a:ext cx="8384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68580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80" y="76320"/>
            <a:ext cx="6875640" cy="327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7620120" cy="1284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62320" y="4191120"/>
            <a:ext cx="12952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600" y="76320"/>
            <a:ext cx="2654280" cy="585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73152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933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71800" y="914400"/>
            <a:ext cx="1600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207040" cy="64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66680" y="2590920"/>
            <a:ext cx="38102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4572000"/>
            <a:ext cx="1752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4:13:31Z</dcterms:created>
  <dc:creator>grahams</dc:creator>
  <dc:description/>
  <dc:language>en-US</dc:language>
  <cp:lastModifiedBy>grahams</cp:lastModifiedBy>
  <dcterms:modified xsi:type="dcterms:W3CDTF">2012-03-22T12:52:59Z</dcterms:modified>
  <cp:revision>2</cp:revision>
  <dc:subject/>
  <dc:title>Slide 1</dc:title>
</cp:coreProperties>
</file>